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208-1414-4382-AC40-D80EA1AD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6EF-B0CD-489F-ABDE-26A2E8EB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195-C679-4CA9-8627-0D940AE8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3E8-EA72-4270-B381-AB6B5AD4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FC9-8070-4D88-B82E-71347A7E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23E-BE81-44BB-9769-6CD321AB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954-4D62-4259-89CF-58DAEAA2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5BC-BE94-4B4C-9BC6-C10A9A99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AA1-EC7E-436C-9434-0406C251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F3D-3E53-44F4-ADB5-6614D8C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D73-F374-46E6-8936-D38EAF1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F65-AABF-4D9A-9858-C947393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6C2-A5E3-4D0D-8D17-909007F3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C Interim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:00 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pm E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November Workshop Agenda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emer/Rosd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port on Network RFP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dahl/Ris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Pre-SG Mtg fe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/SA items (e.g., Single Sales Channel) Update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ch/McC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P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Workshop RSVP 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., Bob G., David L., Tony J., Paul N., Jon R., Bruce K., Geoff T.,  Apurva M., Roger M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ir D., Buzz 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 for 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22b PAR :Amendment: Enhanced Broadband and Monito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9 PAR :Recommended Practice: Key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 – Modified PAR for Overview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mendment Projects: Modified PARs that need to b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05</cp:lastModifiedBy>
  <dcterms:modified xsi:type="dcterms:W3CDTF">2011-10-04T18:3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